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73661"/>
        <c:axId val="86121884"/>
      </c:barChart>
      <c:catAx>
        <c:axId val="81473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21884"/>
        <c:crosses val="autoZero"/>
        <c:auto val="1"/>
        <c:lblAlgn val="ctr"/>
        <c:lblOffset val="100"/>
        <c:noMultiLvlLbl val="0"/>
      </c:catAx>
      <c:valAx>
        <c:axId val="86121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73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A77-DB45-4BC2-A186-6C5D787E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DFC-ED9D-41D8-99A1-AA51E843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445-5E20-4CCC-BFE2-B9AF881D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C68-CA64-469C-B3A8-CC64E307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6724-FAEF-437E-8018-7813DA2F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753B-E4C4-4A50-8DA0-AC1FFFAD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A3A-B4BF-4D0D-B744-DB4E890C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4FF-B1EE-4E32-97B2-B228545F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1FB-6A45-4715-85EB-31B8D2E9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1D7-DFDA-4A05-8F11-330E9A69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BC2-A80D-4C00-9303-22C96645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DE2-E814-4098-AEEC-0F791E49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D35A6-0594-49E1-B664-B38BFFEC1D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