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465452"/>
        <c:axId val="1752037"/>
      </c:barChart>
      <c:catAx>
        <c:axId val="584654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52037"/>
        <c:crosses val="autoZero"/>
        <c:auto val="1"/>
        <c:lblAlgn val="ctr"/>
        <c:lblOffset val="100"/>
        <c:noMultiLvlLbl val="0"/>
      </c:catAx>
      <c:valAx>
        <c:axId val="17520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654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A23C-0865-447D-AABD-87792B699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7375-3803-4700-8132-06F464A1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95F0-4CCB-4207-98D1-76B52F9BF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9175-0C73-4665-93CF-BB5C2A5C7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A752-C7A5-4865-A9DF-85CB608F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1FAF-3298-48B8-8760-F7E607D2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1141-5F20-409A-B635-A03E21AE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9201-A5E8-48CC-BAF8-743FA4B8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5724-CB64-4558-A818-962C89EC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7ED4-9F64-4597-9CFA-83138165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2AD4-3073-4670-A524-9AEBE1B4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7F38-1810-427C-BF30-C60DA076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37F160-7C02-4927-8D21-98E6D5F9DF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