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15079"/>
        <c:axId val="26490829"/>
      </c:barChart>
      <c:catAx>
        <c:axId val="1515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90829"/>
        <c:crosses val="autoZero"/>
        <c:auto val="1"/>
        <c:lblAlgn val="ctr"/>
        <c:lblOffset val="100"/>
        <c:noMultiLvlLbl val="0"/>
      </c:catAx>
      <c:valAx>
        <c:axId val="264908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15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801-88BA-43E4-BF79-F18891D6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6162-97CA-4C96-B536-D42D2841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2B0-D825-466A-A6B5-891A9B9C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002-6FE1-4B6C-8798-92792DDD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ED8-11C7-444B-A477-46FF4C8B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E51-FA4A-4D9B-97A9-E1C4E346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9EB-AA2C-4D72-A8D3-D11A1E20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56F-BE4A-4468-A39C-23E73182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090-A57B-4205-BF7D-BDA0B781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871-3A9A-41EB-8987-0C9DB1A7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14C-EA85-4EF8-A054-E42E8A10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AAA-AEE4-4F93-ADDB-D6FE1FB5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47217-35D3-43F6-A81B-DFB3EAF981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